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C51-1978-4EA7-8C90-42934C34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2DE-BF03-4DEE-90DC-A406D8DC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A4C-0D94-46D1-8752-11FB3EA4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0B8-4CE8-4321-96FE-64266FA1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7CB-CC31-40D4-A72B-408B551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40F-411E-45A7-BF06-B358E7CD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073-74C2-415E-B146-3FC448EB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7D0-231D-46E7-B61D-E6290B3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927-94CA-4A36-9D92-B939083B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1BA-863F-42F3-92D7-587A7C78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90D-1177-4CB0-A93D-53A5AF5C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363-D9FA-49FE-A7A5-4BFAE3D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45F-F5DB-4F59-AE06-68833ED7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eacher Trai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5943600"/>
            <a:ext cx="2057400" cy="78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3890" t="16669" r="65281" b="73019"/>
          <a:stretch/>
        </p:blipFill>
        <p:spPr>
          <a:xfrm>
            <a:off x="533520" y="304920"/>
            <a:ext cx="8001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igate to the correct mont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 the title of th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990720" y="1600200"/>
            <a:ext cx="10972800" cy="6019920"/>
            <a:chOff x="-990720" y="1600200"/>
            <a:chExt cx="10972800" cy="60199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rcRect l="13890" t="16669" r="15973" b="19447"/>
            <a:stretch/>
          </p:blipFill>
          <p:spPr>
            <a:xfrm>
              <a:off x="533520" y="1600200"/>
              <a:ext cx="769608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2"/>
            <a:srcRect l="0" t="66671" r="0" b="0"/>
            <a:stretch/>
          </p:blipFill>
          <p:spPr>
            <a:xfrm>
              <a:off x="-990720" y="4876920"/>
              <a:ext cx="109728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 flipH="1">
            <a:off x="2895480" y="1295280"/>
            <a:ext cx="1447920" cy="4038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4582" t="15741" r="15973" b="20370"/>
          <a:stretch/>
        </p:blipFill>
        <p:spPr>
          <a:xfrm>
            <a:off x="457200" y="152388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ign up for the class?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 Sign Up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ed Help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yo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 Ex or Tech C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nda Forsyth, Prof. Dev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3890" t="16669" r="65281" b="75929"/>
          <a:stretch/>
        </p:blipFill>
        <p:spPr>
          <a:xfrm>
            <a:off x="685800" y="4419720"/>
            <a:ext cx="7543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18752" t="13891" r="22254" b="11113"/>
          <a:stretch/>
        </p:blipFill>
        <p:spPr>
          <a:xfrm>
            <a:off x="1066680" y="0"/>
            <a:ext cx="7159680" cy="682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2666880"/>
            <a:ext cx="3809880" cy="35053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 Visit     http://www.mylearningpla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13890" t="15741" r="15278" b="29632"/>
          <a:stretch/>
        </p:blipFill>
        <p:spPr>
          <a:xfrm>
            <a:off x="457200" y="1600200"/>
            <a:ext cx="86868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 Username:  john.doe@twinriversusd.or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 Password:  chang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3194" t="16669" r="14582" b="28705"/>
          <a:stretch/>
        </p:blipFill>
        <p:spPr>
          <a:xfrm>
            <a:off x="457200" y="1905120"/>
            <a:ext cx="792468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1981080" y="1600200"/>
            <a:ext cx="137160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4582" t="16669" r="14582" b="36111"/>
          <a:stretch/>
        </p:blipFill>
        <p:spPr>
          <a:xfrm>
            <a:off x="533520" y="1600200"/>
            <a:ext cx="8610480" cy="502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 Click 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Change Passwor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&gt;Enter current &amp; new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600200"/>
            <a:ext cx="533520" cy="3352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Click 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My User Profi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&gt;Make sure information is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3194" t="16669" r="15973" b="20370"/>
          <a:stretch/>
        </p:blipFill>
        <p:spPr>
          <a:xfrm>
            <a:off x="457200" y="1733400"/>
            <a:ext cx="8686800" cy="5048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1523520" y="1523880"/>
            <a:ext cx="2057400" cy="2743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t a Check in front of your Building, Department &amp; 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29085" t="16669" r="15973" b="29566"/>
          <a:stretch/>
        </p:blipFill>
        <p:spPr>
          <a:xfrm>
            <a:off x="457200" y="1600200"/>
            <a:ext cx="8001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5251" t="12001" r="15251" b="13003"/>
          <a:stretch/>
        </p:blipFill>
        <p:spPr>
          <a:xfrm>
            <a:off x="831960" y="-3240"/>
            <a:ext cx="8007120" cy="648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04920" y="3048120"/>
            <a:ext cx="3809880" cy="35049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ease fi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Learning Plan Ta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on:    Calen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3890" t="15741" r="15973" b="20370"/>
          <a:stretch/>
        </p:blipFill>
        <p:spPr>
          <a:xfrm>
            <a:off x="457200" y="160020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066320" y="1371600"/>
            <a:ext cx="2971800" cy="2209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6:02Z</dcterms:created>
  <dc:creator>Sarah DiRuscio</dc:creator>
  <dc:description/>
  <dc:language>en-US</dc:language>
  <cp:lastModifiedBy>Sarah DiRuscio</cp:lastModifiedBy>
  <dcterms:modified xsi:type="dcterms:W3CDTF">2009-01-13T23:32:34Z</dcterms:modified>
  <cp:revision>5</cp:revision>
  <dc:subject/>
  <dc:title>Slide 1</dc:title>
</cp:coreProperties>
</file>